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F25CA-045C-4526-A5D5-73A91C1ED0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D8C98-C5EC-4E1F-B414-6EE85C48CD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A488D-C993-4B12-9683-46EE81E437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82F2-F8E1-449A-8383-45508749C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46BB-D09F-4FA3-A4FA-9F1B1F331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0112-13FE-4EB0-BE0D-7524A5470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6B2A-9B37-4FF3-8A8E-74A89A3ED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438B-6889-431A-97D9-4F266728E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C0CA-B3E7-4030-A1E5-B7219EA4F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9319-C4B2-435C-A0E8-BADB8BCEA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8666-1BFF-4749-B239-010CBA463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638A-5719-400D-9EBF-B94F0DFA8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3E61-C21E-4933-9523-41C44C7BF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1DA0-601D-4795-9ADF-E40CD3B8B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E2A8-06E0-45A3-A727-9E678B88A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shapesource.com/" TargetMode="External"/><Relationship Id="rId5" Type="http://schemas.openxmlformats.org/officeDocument/2006/relationships/hyperlink" Target="mailto:support@visimation.com" TargetMode="External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B604A-5C76-49FF-8ED8-A7BF6774E1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VisioZone Header.jpg"/>
          <p:cNvPicPr/>
          <p:nvPr/>
        </p:nvPicPr>
        <p:blipFill>
          <a:blip r:embed="rId2"/>
          <a:srcRect l="0" t="87281" r="0" b="0"/>
          <a:stretch/>
        </p:blipFill>
        <p:spPr>
          <a:xfrm>
            <a:off x="0" y="0"/>
            <a:ext cx="9144000" cy="844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ShapeSource Logo 150.jpg"/>
          <p:cNvPicPr/>
          <p:nvPr/>
        </p:nvPicPr>
        <p:blipFill>
          <a:blip r:embed="rId3"/>
          <a:stretch/>
        </p:blipFill>
        <p:spPr>
          <a:xfrm>
            <a:off x="7086600" y="6172200"/>
            <a:ext cx="1905120" cy="457200"/>
          </a:xfrm>
          <a:prstGeom prst="rect">
            <a:avLst/>
          </a:prstGeom>
          <a:ln w="0">
            <a:noFill/>
          </a:ln>
        </p:spPr>
      </p:pic>
      <p:sp>
        <p:nvSpPr>
          <p:cNvPr id="43" name="Title 1"/>
          <p:cNvSpPr/>
          <p:nvPr/>
        </p:nvSpPr>
        <p:spPr>
          <a:xfrm>
            <a:off x="77760" y="6218280"/>
            <a:ext cx="6094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genda-MediumCondensed"/>
                <a:ea typeface="Arial"/>
                <a:hlinkClick r:id="rId4"/>
              </a:rPr>
              <a:t>www.shapesource.com</a:t>
            </a:r>
            <a:r>
              <a:rPr b="0" lang="en-US" sz="1400" spc="-1" strike="noStrike">
                <a:solidFill>
                  <a:srgbClr val="58595b"/>
                </a:solidFill>
                <a:latin typeface="Agenda-MediumCondensed"/>
                <a:ea typeface="Arial"/>
              </a:rPr>
              <a:t>  </a:t>
            </a:r>
            <a:r>
              <a:rPr b="0" lang="en-US" sz="1600" spc="-1" strike="noStrike" baseline="14000">
                <a:solidFill>
                  <a:srgbClr val="2f5ba9"/>
                </a:solidFill>
                <a:latin typeface="Agenda-MediumCondensed"/>
                <a:ea typeface="Arial"/>
              </a:rPr>
              <a:t>■</a:t>
            </a:r>
            <a:r>
              <a:rPr b="0" lang="en-US" sz="1400" spc="-1" strike="noStrike">
                <a:solidFill>
                  <a:srgbClr val="58595b"/>
                </a:solidFill>
                <a:latin typeface="Agenda-MediumCondensed"/>
                <a:ea typeface="Arial"/>
              </a:rPr>
              <a:t> </a:t>
            </a:r>
            <a:r>
              <a:rPr b="0" lang="en-US" sz="1400" spc="-1" strike="noStrike">
                <a:solidFill>
                  <a:srgbClr val="72706f"/>
                </a:solidFill>
                <a:latin typeface="Agenda-MediumCondensed"/>
                <a:ea typeface="Arial"/>
              </a:rPr>
              <a:t>+1 </a:t>
            </a:r>
            <a:r>
              <a:rPr b="0" lang="en-US" sz="1400" spc="-1" strike="noStrike">
                <a:solidFill>
                  <a:srgbClr val="72706f"/>
                </a:solidFill>
                <a:latin typeface="Agenda-MediumCondensed"/>
              </a:rPr>
              <a:t>425-369-6000 </a:t>
            </a:r>
            <a:r>
              <a:rPr b="0" lang="en-US" sz="1400" spc="-1" strike="noStrike" baseline="14000">
                <a:solidFill>
                  <a:srgbClr val="2f5ba9"/>
                </a:solidFill>
                <a:latin typeface="Agenda-MediumCondensed"/>
                <a:ea typeface="Arial"/>
              </a:rPr>
              <a:t>■</a:t>
            </a:r>
            <a:r>
              <a:rPr b="0" lang="en-US" sz="1400" spc="-1" strike="noStrike">
                <a:solidFill>
                  <a:srgbClr val="72706f"/>
                </a:solidFill>
                <a:latin typeface="Agenda-MediumCondensed"/>
              </a:rPr>
              <a:t>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Agenda-MediumCondensed"/>
                <a:hlinkClick r:id="rId5"/>
              </a:rPr>
              <a:t>support@visimation.com</a:t>
            </a:r>
            <a:r>
              <a:rPr b="0" lang="en-US" sz="1400" spc="-1" strike="noStrike">
                <a:solidFill>
                  <a:srgbClr val="72706f"/>
                </a:solidFill>
                <a:latin typeface="Agenda-MediumCondensed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C:\Documents and Settings\Liz.VISIMATI-BA736C\My Documents\_MARKETING\Graphics\2010 Logo Change\ProShapes\ProShapesArt\ProShapesArt\HiRes\ProShapesArt.emf"/>
          <p:cNvPicPr/>
          <p:nvPr/>
        </p:nvPicPr>
        <p:blipFill>
          <a:blip r:embed="rId6"/>
          <a:stretch/>
        </p:blipFill>
        <p:spPr>
          <a:xfrm>
            <a:off x="914400" y="125280"/>
            <a:ext cx="2992320" cy="484200"/>
          </a:xfrm>
          <a:prstGeom prst="rect">
            <a:avLst/>
          </a:prstGeom>
          <a:ln w="0">
            <a:noFill/>
          </a:ln>
        </p:spPr>
      </p:pic>
      <p:sp>
        <p:nvSpPr>
          <p:cNvPr id="45" name="Manuf"/>
          <p:cNvSpPr/>
          <p:nvPr/>
        </p:nvSpPr>
        <p:spPr>
          <a:xfrm>
            <a:off x="3809880" y="517680"/>
            <a:ext cx="3200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95b"/>
                </a:solidFill>
                <a:latin typeface="Agenda-BoldCondensed"/>
                <a:ea typeface="Arial"/>
              </a:rPr>
              <a:t>Cisco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roduct"/>
          <p:cNvSpPr/>
          <p:nvPr/>
        </p:nvSpPr>
        <p:spPr>
          <a:xfrm>
            <a:off x="6934320" y="57708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95b"/>
                </a:solidFill>
                <a:latin typeface="Agenda-MediumCondensed"/>
                <a:ea typeface="Arial"/>
              </a:rPr>
              <a:t>Routers - Cisco NCS 5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6854760" y="519120"/>
            <a:ext cx="2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95b"/>
                </a:solidFill>
                <a:latin typeface="Agenda-MediumCondensed"/>
                <a:ea typeface="Arial"/>
              </a:rPr>
              <a:t>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1371600" y="31240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genda-Medium"/>
              </a:rPr>
              <a:t>Enhanced Metafile (emf) Vector 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560-RSP4-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4078440" y="3573360"/>
            <a:ext cx="987120" cy="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A900-IMA-8Z-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4346640" y="3587760"/>
            <a:ext cx="450720" cy="6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Cisco R42610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3738600" y="888840"/>
            <a:ext cx="1666800" cy="546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1"/>
          <p:cNvSpPr/>
          <p:nvPr/>
        </p:nvSpPr>
        <p:spPr>
          <a:xfrm>
            <a:off x="609480" y="1019160"/>
            <a:ext cx="7772400" cy="57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genda-Bold"/>
              </a:rPr>
              <a:t>Using These 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his PowerPoint file contains Enhanced Metafile (emf) vector images of the product line noted on the title pag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Each slide contains one Enhanced Metafile (emf) vector image, the manufacturer, name of the product line, and the product number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he title on each slide is the product number and it contains a hyperlink to the manufacturer’s product page or home page for more in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o navigate to a particular product number, select the Outline view to show the titles of all sli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If you don’t have Microsoft Visio on your computer, you can ignore the vss file or Visio Stencil included in the zip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All images in this PowerPoint are created using the same relative scale so the images will fit together when assembled on a docu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PowerPoint does not have the concept of “drawing scale” so the image scale does not relate to standard scales, i.e. 1”=1’-0”, 1:10, etc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You can resize an image by dragging on the sizing handles to make it larger or small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Be sure to only resize using the corner handles to maintain the proper aspect ratio, i.e. height to wid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hese are vector images that will remain clear as the size incre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o copy an image to another slide or to a document in another application, select image and use any of several standard Windows Copy/Paste meth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genda-Medium"/>
              </a:rPr>
              <a:t>Note:</a:t>
            </a: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  if you have assigned a hyperlink to the image, the Hyperlink data will not transfer when copying an im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hese Enhanced Metafile (emf) vector images can be used with any Windows based graphic software that supports .emf im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560-4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3911760" y="3375000"/>
            <a:ext cx="132048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560-4 R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3911760" y="3375000"/>
            <a:ext cx="132048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560-4-RSP4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4078440" y="3573360"/>
            <a:ext cx="987120" cy="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560-IMA1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4346640" y="3587760"/>
            <a:ext cx="450720" cy="6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560-IMA2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4346640" y="3587760"/>
            <a:ext cx="450720" cy="6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560-IMA-2C-D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4346640" y="3587760"/>
            <a:ext cx="450720" cy="6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560-IMA-8Q/4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4346640" y="3587760"/>
            <a:ext cx="450720" cy="6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1T17:18:29Z</dcterms:created>
  <dc:creator>Lizl</dc:creator>
  <dc:description/>
  <dc:language>en-US</dc:language>
  <cp:lastModifiedBy>Brett Newman</cp:lastModifiedBy>
  <dcterms:modified xsi:type="dcterms:W3CDTF">2021-07-01T00:12:08Z</dcterms:modified>
  <cp:revision>6</cp:revision>
  <dc:subject/>
  <dc:title>Slide 1</dc:title>
</cp:coreProperties>
</file>